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5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  <p:sldId id="259" r:id="rId29"/>
    <p:sldId id="260" r:id="rId30"/>
    <p:sldId id="261" r:id="rId31"/>
    <p:sldId id="262" r:id="rId32"/>
    <p:sldId id="263" r:id="rId33"/>
    <p:sldId id="264" r:id="rId34"/>
    <p:sldId id="265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slide" Target="slides/slide5.xml"/><Relationship Id="rId31" Type="http://schemas.openxmlformats.org/officeDocument/2006/relationships/slide" Target="slides/slide6.xml"/><Relationship Id="rId32" Type="http://schemas.openxmlformats.org/officeDocument/2006/relationships/slide" Target="slides/slide7.xml"/><Relationship Id="rId33" Type="http://schemas.openxmlformats.org/officeDocument/2006/relationships/slide" Target="slides/slide8.xml"/><Relationship Id="rId34" Type="http://schemas.openxmlformats.org/officeDocument/2006/relationships/slide" Target="slides/slide9.xml"/><Relationship Id="rId35" Type="http://schemas.openxmlformats.org/officeDocument/2006/relationships/slide" Target="slides/slide10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967DF0-AA98-4219-8BF0-45819FDD41F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658B7D-8342-4B26-A51C-A8BA98DB7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C88F619-A16C-429B-91BA-3FF760B1D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D05C774-5AB0-42E3-B379-45C120029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0283F32-8C8E-4C8B-9604-0708C60B1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3F22309-FD9C-4320-92F3-F20DB522B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0C1AB57-226B-410C-B70B-CF1F4B254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2F94553-84E8-4112-8728-E4D69944E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5E463CD-4C81-4ED5-BD9D-66E42020E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865E87F-D381-4B35-8AE2-8E0297BEF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2ED8BA2-3546-41D7-812F-3C34D528D67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2CD258-1DE9-44B0-95C2-EE74F7EDEBE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E76A3F-8833-4667-863D-00E76651C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DB13FB-30F5-45A8-8D0D-1433938D3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F666F0-82B7-4CC6-8885-C6C77F2AE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0A1E1C-90B6-4F39-884C-FEEC21013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CCF27A-7A0C-4FE4-8CBD-DE0F775CE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9106A9-60AC-4487-8166-BEEAA53C7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76A0C5-5876-49E0-ADA6-5B1264A33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C3246A-467A-4217-B7BB-205916E6B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EBD273-7C77-4126-9715-0BA0E7D88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F276A7-AE5E-4773-8F44-3A2924177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E497B5-B70D-4F39-AEC5-54942049C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0838BB-605A-4A07-8654-C07DD6424D2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1C009A-C759-477F-AE35-0369A0F5C6F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BC614A7-D337-4D5E-B239-D75B4650E0A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C61FB79-77A6-43C4-9E2A-55035DCFE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4A844E2-C8A4-4DFE-9E7E-B6B57E575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34F1096-109C-46AD-9143-9BA58BB0E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9562A93-2064-479E-B222-B23CD1163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A62D682-F358-413B-A6A9-3775C26A7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54AF116-BE4C-4D90-9195-F1C8A7CF1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50CCD78-F468-40BF-BBE5-C6AA716E4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63C6E4D-21C0-4EA7-A78F-644831A34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B256AD-0D82-4EDC-9EA7-A985ED086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DEAA7EC-6437-4571-851A-4AB23667F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4FF73DF-E81B-42FE-867E-1E37CA52A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2E4010A-CCAC-4898-BE35-01C29AC4F1C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63D353A-A30C-4A53-976E-A3BD1ED9074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C49C8BD-759A-42A2-BD34-10FF75F98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76C6092-D52D-4B1C-9E77-6C13EA42A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89CD3D9-E062-497C-BBD1-F7C640259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8330960-4A0F-4010-86CE-112788F1C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B9C6483-DF65-4D7B-982B-A9C32E99D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923E86F-D838-497A-B286-B06C26F73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F5E910-101A-4BE7-9AC8-09B632AEB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0B0C554-3E6D-4977-AD72-6F48A325C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88AF948-4AC3-4FCE-A9D3-0C5AD524D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1A5D703-FCA8-4A31-A23B-AB20A7E75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FB63C36-5411-45D5-805E-0BA1A68D4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295343D-CB7E-45DC-9D8F-9712EBB57C4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D56080-869C-4E90-86C3-A8AA784E96D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33E448-1072-492C-8BB0-60D591D79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297019-04E5-4CE3-9606-F85A3457B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6AC11E-1E8E-486A-BE55-F52D6B676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EEC7F3-DF5D-4DFD-94B2-9C95AF929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2FA72D-23DB-401C-BA21-4516BC73F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4607E1-997A-453F-8439-80862BF84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218C59-5A47-494E-A0C9-A2119A7BA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1B079A-1AAB-4424-8B4C-122D761AD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97DC79-9F9E-4CDF-BF16-25A580020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7F2FA5-54F3-4571-AD2B-E690E3D1E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ACB187-7DBA-4981-8133-4026C7E6B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B7FC13-E448-49BF-B3CA-E34C7B70E5B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840C9D-4EEB-4F50-BF4A-2BAE9D879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2471B2-9E54-4A84-BDD4-95AA392C5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703669-D3F7-4B1D-B520-03DA5AE33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F5CADC-6C9E-48C8-9DD9-ADB956CAF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C7C13E-40A0-4407-88EC-7C9E5C64F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570E03-F76D-4E40-B4C9-AFAAC9A7D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28044F-79CA-4C53-94B6-30A32092C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4751D2-3C22-459F-9B55-F3DBC3907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BCC474-44B5-46D3-85DE-9F0D6D7AD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2BF91D-A6BE-472A-8EEA-3386B621D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01ACDC-DFA8-4152-ADCF-F12786ED3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8E6B42-5675-4F32-91ED-6D5B750F6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59B3D5-8A6C-41A0-8CA2-765071277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A76BFF-1B36-49DB-9F70-7EA4731DD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D3264B-8466-4EA3-B470-FC43237AC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11A020-A4BE-41E1-ADFD-224E43D8E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B3A6DA-29B7-4E06-A750-61F53A710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EC1FBA-0C12-4FA5-B860-124D1308D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89DCCE-905C-4EF2-BE34-CBAB719AA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049D02-0F69-412C-9DBA-75352418F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44027A-4121-4867-A156-C42ACEB7C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6118EC-0EDB-4EA3-AC01-ADF3458A2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1F207C-BFEF-40E6-A9F4-A84A2D96E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643E7E-3818-4B19-ABEF-C71250953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3715E7-FB25-4796-BDAF-F34339F17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B28AF9-9055-484D-B98A-14E09B5DC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33A968-27F8-4DED-94CF-99B9621DE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5C69E4-7964-4020-935A-70C577216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8AADD4-C06C-4ED9-971F-1076B02C0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55A426-464F-4C15-93D7-9F92EC3A6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689D59-8F57-425D-9BEF-4DEF66970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005E66-097F-4B41-9C47-D9369DDB1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48C5B0-1C5E-402A-98BF-457919EB1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EAFA14-C8B3-4EE9-BB76-08D72A9F6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0EAF0A-46DF-41FA-BF50-1E28407E4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C2E53F-368F-4D4E-9900-825D0A093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7B3CD5-FA4A-4A75-AA0C-7512ABFA3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C95AE1-83B4-4FBC-A854-730ED00E3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E4B59B-B913-4E47-857A-A8CC814B3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FDEFA8-0EC3-4EC8-85A2-EB69C6DF8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E988A49-D81F-4EC4-AE11-656A98208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D858678-8A92-4FFC-B09F-314827FEE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E2C50D4-D6A3-47E3-A8CC-D4B76B179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9CFF8C4-E677-42D4-AEC2-B45AD4E6D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BBC98BC-5B7C-436E-920A-6F3ABA5CA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B7AAB28-29BD-4DA1-ADDE-B8AEB5D2E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96C3908-A630-4780-91C8-4A743638E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1E8A8E-6A82-4A1F-99A6-EEF79CA01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141A66-A76A-4C61-AB22-3CF39717A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E76BD74-5ACE-4EE5-AE9C-145283F64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21A0483-6235-4CD0-88A6-A3AAC1F92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827742B-A0CA-41B4-9E74-E6B9A0ECD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AB9AC61-9F9F-43E4-8130-4EB74DC23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1D88285-6B08-468F-828D-6E4A7496B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DBDB53D-44EB-4A1A-B1F1-294E38A7F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8AE0320-42C7-4B30-BF57-704E5082B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6598FD6-4720-4936-83B5-DD13F16B7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7F5DB25-5A0D-4546-8CB4-D68F03377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C88AB90-DD9E-4A45-89B1-9D6AD44AF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C31F1D-F24A-4F92-8275-47D056E19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B1112D9-95A3-43D3-B2EA-37989CA00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4C29DF9-5B3D-4BC7-9787-87EA34300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D2A9BE4-DD3D-44C6-A6B0-5BFF44D3E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640462E-E33A-4501-B272-526A0F9FE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0CB59B1-8D7C-48E0-AC20-837064648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7F4C229-4791-4293-8ED4-E18C30E03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102D714-26C3-43F8-AA9E-E51523C12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DAC5135-A8DF-4B8B-A5CD-F0A95D7E7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971736C-6950-48E6-8ED6-FA9F053FE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91B8E4D-1489-4CCA-A199-A812C0DE1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0FF920-E42C-49EF-9434-E0F3B7CB8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4C63454-062C-4C28-A445-CCA394DAC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10632A7-D49E-48D9-A334-DF15FA9D1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A17EA9C-BB4B-47F6-87F2-83C90F123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FA1ABF2-DD1D-4079-85BB-54A8BA9AA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CB80FBA-ABC0-4C1D-9FFC-E4859AFEA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808982E-09CD-411A-AFB8-6C6E97520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272E90F-1B77-4B10-A0EA-ED070BF91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AF1C1D1-A49F-4DAE-A67C-C2842E495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7BE3DAA-B855-47F8-941B-A698E4270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ADA39FB-CF2F-4ECD-92E8-5ADA85206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949ED7-57BA-4543-B8ED-66840F8B8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17AEC97-1FBA-4BFF-A80A-0A31D4B0E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CD8E1F9-D40D-4596-A53E-027EC8B1A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E1B67A6-1DB2-4482-88B9-66DE8B342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524CAE2-D6A6-4AAA-BD0B-3B1AB370A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6083160-3A16-4671-9D7E-171A3CFC3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8E01D23-989B-414F-82CE-2F8B7B9D1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599A6FA-1F48-4135-989D-E99C6F27C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95D3CF3-55A1-4B09-8539-480603693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37A9CAD-F058-4E7D-93A5-7954FB070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80B733D-89C9-436C-9A6A-30DECA209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DB82FB-737B-48C2-80B3-084DED6E2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111EDDE-D651-4D93-9D01-84D894FA5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7B58173-79D6-47A3-B0E9-59CE37B76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10E0B6C-97EA-4600-BC61-53CDC7FDA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057A584-69A5-41DA-BA8A-41BE5E82A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DA57DDC-1782-4DC0-8B26-CF37845B1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299B211-72D6-4DE7-A0D6-EDF3AB4C4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2DB804E-A109-4438-B825-23EE4CF6F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AE37CA8-0B5E-4253-9B82-D693975A2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9B9CCFB-74A4-447A-81EF-3F58B87EB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6A06334-3E7C-48DA-AA0E-592969C81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8B07353-60D3-4E57-9569-E07BFFF2251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06DDFA5-C6C0-42C3-A36D-0FAEC8C13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05EE873-7A6D-4F2F-BCC2-75D44E554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9139A4C-0531-4285-AF18-97882A341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01D6F43-12AA-4203-8AE3-9D51FD720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93BD837-82B9-42B5-9913-2CFBBAE93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68AACB5-9E2B-47B7-B197-7CAF98F39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5A912E7-0BC8-4258-AB34-5DAEC702B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76448E1-5185-4C4C-B09E-AFABB551B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B8D96E7-F937-4099-998F-383030B24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D391B80-A241-42B0-A98E-B6689BEB6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2CAA6B9-4F5C-4B80-BC21-7A3EE8560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7BA317F-5988-4535-A776-E66F9ABF6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2C8BCF7-FFA6-40C4-8A22-8F2727CA2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36B711F-BA51-4C5E-8AA3-373787D4F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F403975-C1F1-4A09-A092-77F7FEE8B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5D8CCF1-6F7A-4CA6-8291-94C903AF0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2193ED0-1C95-4D37-A88E-D8AE6ACD6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0C820AB-8F48-4F9B-A91F-EF671E8BF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9ADB5D8-BC5A-4E50-AA04-E21E28991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2AA1680-8E43-4A93-821F-6D0B7BF14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D7BFE8E-AF2F-45E7-9E41-1D2F9CDF6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70C9EA4-863A-4827-B264-576E6553C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7175D18-84E2-4F5C-AAC6-F7FE61CE8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D89A926-91E8-452D-A74D-41051F95C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2F23FB3-4DCE-42B6-9ABD-D7576F4F8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9FC14A7-456A-4179-972B-55509C53F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29C73BC-3B8D-4C36-9AD8-2E1E84679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53FFCA0-A5DB-4530-9113-46DCC93F7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5F9871A-90A3-413A-8131-1CD26BBE9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013D44C-78C1-4CAA-B26A-7D5C24412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08B96F8-4D97-4D9F-8237-96C74237C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C0B4E5D-0E96-4A66-AC55-BDC7EBAAA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3366F6A-8300-4C19-BC24-7C1C72FEA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91CCD5D-9BCD-4D14-AF22-07906903B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C69D687-F72F-4985-A8CA-D90F6FF9B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FC6FD00-402C-4611-B213-18D370CC6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6A5E43F-5493-4977-9BB3-10A18EAF8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50A0BA4-1A77-47ED-A3CB-18043B06B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D3C94A6-E349-4F68-8DB0-661861295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C1274A4-9C0A-4613-9743-22082FB76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7A7DDD8-3B08-4D15-ACA9-F46975ED0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27D202A-AA89-494D-AC15-2D2B4DEBF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B79EBB7-A687-41E9-AD28-30353DB75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C08D61-5815-4E21-8F5E-4EA3B7EC7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1CCA18F-24F1-422D-95F9-4172266C8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A9AC710-EEBC-4BB6-BE97-B093F5AA0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35DFEDA-E167-4AF7-A91D-530D9FC49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AFA6341-9F8B-4987-AF2E-E0C73D743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997BE07-D8F3-413C-AA88-2CF0341F8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1152E82-C269-4BFF-8C89-6E6B8DBBF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28D1971-2D55-46FE-B8DE-B3ED25220DD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64295D-CD53-40F5-954D-4B883F540F0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C77D8C-29DE-4BAB-BF92-6D5323541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9EA64F-FBE0-49CE-A869-97E57B1DA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147F5B-6853-49A0-A0C8-6B59AB6BC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FA0E04-8934-4036-AD94-711FA23D0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AD526B-7E51-419E-AA64-91B5147C5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F59DAF-E692-490A-942F-C8E11298D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A45005-83A3-4477-8293-71499D704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7D5BCE-95B9-4F29-96FA-A035E0E85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C7F8C0-39E6-4C7E-BB46-69BE24B2F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9F3E8C-558F-41C7-B3C0-821899AF1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2A5302-3620-4977-8FDB-232AE4FAA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368E34-B4C8-4CB8-882F-8B2886437BE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8611C68-8E4A-4F35-AB0B-C9A7E7B07C7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E7F620-6A83-4B76-8313-877757F73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FF84529-6C28-475B-9159-A84897314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F2965AE-8E27-49A9-94FA-4CE1E7C47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CEF0170-66BB-454B-9CB2-36EB5B3E9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83685EA-CAD2-4AD9-8418-141273228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E5BF1F8-983E-4216-A65B-418D566A3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CB201E6-E80E-4F27-9213-2C0440DEE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C632C1B-DB66-4429-A817-CE4DA3FD7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88277C5-6BEA-4A8F-8EAE-D8FAB8566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6DFC24E-7EB4-4426-BBB9-BE18DD41D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B169381-0D28-4BEB-8273-8A5116E31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39D5AC-89F5-475D-AC4C-4FAD7DD51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7D35857-E443-4C8C-AE3C-46C8A9DC79B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AA3FE0C-E949-475A-AEB0-1EB62F99FC0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DBF6EB8-E3F8-445B-9193-317200278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045BF39-52BC-42FF-866B-B51A99B4D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FC27F50-E985-4A3E-AF18-96F81BE48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6C2C3A2-AA50-4A56-89F8-56CA3AD21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DB10357-1703-4F7C-8E30-470F8B72B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AD4C638-F027-42AE-AD94-D06893DC1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DDFE88F-5020-4E31-B458-427C9DB48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A52354A-6FCF-4FBD-B394-AFCC85688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166494-C1E0-4093-96ED-7D689997F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338C2D2-B346-47CE-A4FA-B8C7E1684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B5EE389-9C3B-433E-A190-528B46F3F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4B9CFF2-455B-4DEC-A039-CF81DD36D29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CAA7BE-9202-42D7-BE54-BDA408E8E64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90BC54-0666-40CB-962C-C796F1ADA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1435DD-3F28-4A2F-A60C-4A9120204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1F9F22-F904-4549-B847-6A5204ECE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E6D971-5FDB-4D47-89F0-E7396E1A9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DC6055-3767-4E23-8E89-B4956826A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4E9016-CB1A-41A8-8863-9062E1113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0551AB-E956-4E02-9DD1-E457DCAE6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1D0DCF-CF44-4F4F-8151-95DB4C61D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62228E-AE38-4372-B8F4-29B375C7A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9E0534-CECA-43BA-BDB5-F8B744E06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B42B40-3C40-4B17-9D46-E070200F2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ED4D14-37F2-4BBA-927D-4CF25FE5519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28C35AB-7B25-45DA-9CDC-844B06615FB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86C4EE1-A908-4CD7-94BC-13D882904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1C4FA4C-9C73-48F6-BAE2-E19FAB859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D5D2763-48E8-4D7E-907F-DD82CAA1F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7C36EAF-D812-416E-8E3C-C76E58D87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B1C9AA-9500-42AF-B5D8-4924BB5DD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66AA6B3-3A7A-4832-817A-8359DC65D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02ECF72-6578-430B-BA60-15672B22E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9098878-B048-466E-9C4D-064ACFF40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6CC537D-1C97-47B7-B991-40305B520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029444B-E5A1-40E2-9333-7D8700D39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6DC9BDB-85FB-4E1C-8B9A-B791320EC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05748A8-C360-4CC7-A547-73AEE2AA94E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3F28FF0-6603-41BB-AC3C-0BB8F350597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D3E7138-4BB6-4F22-9BBB-3CEB5720C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3F46DB8-090B-4191-911D-0AF8A68ED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25601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1" name="组合 2560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2" name="椭圆 2560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椭圆 2560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椭圆 2560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椭圆 2560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椭圆 2560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B5189-CE92-493C-BB3D-6F374388A394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dt" idx="2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1FF81-C99D-44DA-A987-844D14BDEAA9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sldNum" idx="2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57FD1-B929-40F7-8278-0D86BDF369AE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dt" idx="2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 type="sldNum" idx="2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B70E4-3554-4C82-ABC6-FED9222248CD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2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C3FD3-08F9-41BE-8738-6C8A1393DF93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 type="ftr" idx="2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CB58C-5E19-4F6C-A6E3-384C171BEF4D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 type="ftr" idx="3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88B06-99D5-4952-BAED-D7343A678052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 type="ftr" idx="3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7F44E-A48E-4BA5-89E1-FC829ADEF0F3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 type="ftr" idx="3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BA2D5-FFB1-43AD-9922-93A364CF1059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 type="dt" idx="4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 type="ftr" idx="4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68E80-36CD-4C83-A2CB-5BAE72634F31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dt" idx="4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ftr" idx="4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F3BDB-5D8E-419C-B523-A3884222828A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图片 25601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48" name="组合 2560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49" name="椭圆 2560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椭圆 2560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椭圆 2560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椭圆 2560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椭圆 2560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7D2C5-6B05-4D6F-B437-55E54F0359DD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 type="dt" idx="4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 type="ftr" idx="4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451FB-A56A-4A72-914C-C94C037F0ADE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4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CDDC2-D2B4-4A82-9E21-97EA2849B37F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 type="dt" idx="5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 type="ftr" idx="5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86FF0-B6BF-4943-9C60-E4321CDB8C99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 type="dt" idx="5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 type="ftr" idx="5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FD161-177D-48A9-B888-CF8F0DAEC8B7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 type="dt" idx="5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 type="ftr" idx="5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0951C-8FC8-4FD5-AE6B-738EBF46C5AB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11F54-E75E-4121-A5D4-CC08AB427B8C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8A678-E21F-402B-8ED0-A2F170FDD6E1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B8630-0F5A-48EB-B6AC-F54885D3258C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sldNum" idx="1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EA9A9-794B-4BBB-84D7-DE200B99859D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31C02-C6C4-4B65-81ED-F7D838776BE5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sldNum" idx="1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07B14-D60B-49C3-A888-4DFC44AF311B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dt" idx="1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 type="sldNum" idx="1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E03CC-5CAD-4F40-9718-D40AB287BB20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image" Target="../media/image16.png"/><Relationship Id="rId12" Type="http://schemas.openxmlformats.org/officeDocument/2006/relationships/image" Target="../media/image17.png"/><Relationship Id="rId13" Type="http://schemas.openxmlformats.org/officeDocument/2006/relationships/image" Target="../media/image18.png"/><Relationship Id="rId14" Type="http://schemas.openxmlformats.org/officeDocument/2006/relationships/image" Target="../media/image19.png"/><Relationship Id="rId15" Type="http://schemas.openxmlformats.org/officeDocument/2006/relationships/image" Target="../media/image20.png"/><Relationship Id="rId16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image" Target="../media/image17.png"/><Relationship Id="rId10" Type="http://schemas.openxmlformats.org/officeDocument/2006/relationships/image" Target="../media/image18.png"/><Relationship Id="rId11" Type="http://schemas.openxmlformats.org/officeDocument/2006/relationships/image" Target="../media/image19.png"/><Relationship Id="rId12" Type="http://schemas.openxmlformats.org/officeDocument/2006/relationships/image" Target="../media/image20.png"/><Relationship Id="rId13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image" Target="../media/image28.png"/><Relationship Id="rId8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image" Target="../media/image28.png"/><Relationship Id="rId8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6" name=""/>
          <p:cNvGrpSpPr/>
          <p:nvPr/>
        </p:nvGrpSpPr>
        <p:grpSpPr>
          <a:xfrm>
            <a:off x="2284560" y="2448000"/>
            <a:ext cx="4475160" cy="360"/>
            <a:chOff x="2284560" y="2448000"/>
            <a:chExt cx="4475160" cy="360"/>
          </a:xfrm>
        </p:grpSpPr>
        <p:sp>
          <p:nvSpPr>
            <p:cNvPr id="987" name="Line 10"/>
            <p:cNvSpPr/>
            <p:nvPr/>
          </p:nvSpPr>
          <p:spPr>
            <a:xfrm>
              <a:off x="2284560" y="2448000"/>
              <a:ext cx="4475160" cy="0"/>
            </a:xfrm>
            <a:prstGeom prst="line">
              <a:avLst/>
            </a:prstGeom>
            <a:ln w="57240">
              <a:solidFill>
                <a:srgbClr val="13c4c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"/>
            <p:cNvSpPr txBox="1"/>
            <p:nvPr/>
          </p:nvSpPr>
          <p:spPr>
            <a:xfrm>
              <a:off x="2284560" y="2448000"/>
              <a:ext cx="44751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9" name="Rectangle 7"/>
          <p:cNvSpPr/>
          <p:nvPr/>
        </p:nvSpPr>
        <p:spPr>
          <a:xfrm>
            <a:off x="0" y="1757520"/>
            <a:ext cx="2440080" cy="71424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Oval 8"/>
          <p:cNvSpPr/>
          <p:nvPr/>
        </p:nvSpPr>
        <p:spPr>
          <a:xfrm>
            <a:off x="2317680" y="1746360"/>
            <a:ext cx="381240" cy="42552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Rectangle 11"/>
          <p:cNvSpPr/>
          <p:nvPr/>
        </p:nvSpPr>
        <p:spPr>
          <a:xfrm>
            <a:off x="2330280" y="1846440"/>
            <a:ext cx="357480" cy="59508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Oval 8"/>
          <p:cNvSpPr/>
          <p:nvPr/>
        </p:nvSpPr>
        <p:spPr>
          <a:xfrm>
            <a:off x="2317680" y="1746360"/>
            <a:ext cx="382680" cy="42552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Rectangle 11"/>
          <p:cNvSpPr/>
          <p:nvPr/>
        </p:nvSpPr>
        <p:spPr>
          <a:xfrm>
            <a:off x="2336760" y="1879560"/>
            <a:ext cx="357120" cy="59544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Rectangle 9"/>
          <p:cNvSpPr/>
          <p:nvPr/>
        </p:nvSpPr>
        <p:spPr>
          <a:xfrm>
            <a:off x="-1163520" y="1744560"/>
            <a:ext cx="888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 </a:t>
            </a: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6 </a:t>
            </a: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元      </a:t>
            </a:r>
            <a:r>
              <a:rPr b="1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多位数乘一位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Oval 5"/>
          <p:cNvSpPr/>
          <p:nvPr/>
        </p:nvSpPr>
        <p:spPr>
          <a:xfrm>
            <a:off x="3252960" y="2722680"/>
            <a:ext cx="558720" cy="46332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Rectangle 6"/>
          <p:cNvSpPr/>
          <p:nvPr/>
        </p:nvSpPr>
        <p:spPr>
          <a:xfrm>
            <a:off x="2700360" y="2685960"/>
            <a:ext cx="6512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  </a:t>
            </a:r>
            <a:r>
              <a:rPr b="0" lang="en-US" sz="3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课时   口 算 乘 法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TextBox 2"/>
          <p:cNvSpPr/>
          <p:nvPr/>
        </p:nvSpPr>
        <p:spPr>
          <a:xfrm>
            <a:off x="5286240" y="-3240"/>
            <a:ext cx="38592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三年级数学上册（</a:t>
            </a:r>
            <a:r>
              <a:rPr b="1" lang="en-US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RJ</a:t>
            </a:r>
            <a:r>
              <a:rPr b="1" lang="zh-CN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）    教学课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3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1204" name="圆角矩形 5" descr=""/>
            <p:cNvPicPr/>
            <p:nvPr/>
          </p:nvPicPr>
          <p:blipFill>
            <a:blip r:embed="rId1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05" name="组合 4"/>
            <p:cNvGrpSpPr/>
            <p:nvPr/>
          </p:nvGrpSpPr>
          <p:grpSpPr>
            <a:xfrm>
              <a:off x="0" y="197280"/>
              <a:ext cx="429840" cy="271800"/>
              <a:chOff x="0" y="197280"/>
              <a:chExt cx="429840" cy="271800"/>
            </a:xfrm>
          </p:grpSpPr>
          <p:sp>
            <p:nvSpPr>
              <p:cNvPr id="1206" name="椭圆 1"/>
              <p:cNvSpPr/>
              <p:nvPr/>
            </p:nvSpPr>
            <p:spPr>
              <a:xfrm rot="16200000">
                <a:off x="243000" y="36000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07" name="椭圆 7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2364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8" name="椭圆 29"/>
              <p:cNvSpPr/>
              <p:nvPr/>
            </p:nvSpPr>
            <p:spPr>
              <a:xfrm rot="16200000">
                <a:off x="243000" y="23400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09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1168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10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3984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11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1176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12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500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13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728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214" name="文本框 107"/>
          <p:cNvSpPr/>
          <p:nvPr/>
        </p:nvSpPr>
        <p:spPr>
          <a:xfrm>
            <a:off x="365040" y="1117440"/>
            <a:ext cx="835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四、校园里共栽了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1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棵柳树，栽的松树是柳树的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倍，栽了多少棵松树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文本框 1"/>
          <p:cNvSpPr/>
          <p:nvPr/>
        </p:nvSpPr>
        <p:spPr>
          <a:xfrm>
            <a:off x="1671480" y="2693880"/>
            <a:ext cx="318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21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×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4=84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（棵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文本框 2"/>
          <p:cNvSpPr/>
          <p:nvPr/>
        </p:nvSpPr>
        <p:spPr>
          <a:xfrm>
            <a:off x="1450800" y="3686040"/>
            <a:ext cx="389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答：栽了</a:t>
            </a: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84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棵松树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矩形 5"/>
          <p:cNvSpPr/>
          <p:nvPr/>
        </p:nvSpPr>
        <p:spPr>
          <a:xfrm>
            <a:off x="2861280" y="98280"/>
            <a:ext cx="356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  <a:ea typeface="宋体"/>
              </a:rPr>
              <a:t>一、创设情境，导入新课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9" name="Picture 2" descr="D:\我的文档-桌面-收藏夹\桌面\游乐园.jpg"/>
          <p:cNvPicPr/>
          <p:nvPr/>
        </p:nvPicPr>
        <p:blipFill>
          <a:blip r:embed="rId1"/>
          <a:stretch/>
        </p:blipFill>
        <p:spPr>
          <a:xfrm>
            <a:off x="139680" y="1355760"/>
            <a:ext cx="4089600" cy="2467080"/>
          </a:xfrm>
          <a:prstGeom prst="rect">
            <a:avLst/>
          </a:prstGeom>
          <a:ln w="0">
            <a:noFill/>
          </a:ln>
        </p:spPr>
      </p:pic>
      <p:sp>
        <p:nvSpPr>
          <p:cNvPr id="1000" name="矩形 11"/>
          <p:cNvSpPr/>
          <p:nvPr/>
        </p:nvSpPr>
        <p:spPr>
          <a:xfrm>
            <a:off x="642960" y="5072040"/>
            <a:ext cx="1643040" cy="357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1" name=""/>
          <p:cNvGraphicFramePr/>
          <p:nvPr/>
        </p:nvGraphicFramePr>
        <p:xfrm>
          <a:off x="4340160" y="1709640"/>
          <a:ext cx="4202280" cy="3218040"/>
        </p:xfrm>
        <a:graphic>
          <a:graphicData uri="http://schemas.openxmlformats.org/drawingml/2006/table">
            <a:tbl>
              <a:tblPr/>
              <a:tblGrid>
                <a:gridCol w="708120"/>
                <a:gridCol w="1712880"/>
                <a:gridCol w="1781280"/>
              </a:tblGrid>
              <a:tr h="8535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5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名称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5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价格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5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（每人每次）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5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旋转木马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</a:t>
                      </a:r>
                      <a:r>
                        <a:rPr b="0" lang="zh-CN" sz="25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元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26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5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流流勇进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0</a:t>
                      </a:r>
                      <a:r>
                        <a:rPr b="0" lang="zh-CN" sz="25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元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26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5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过山车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2</a:t>
                      </a:r>
                      <a:r>
                        <a:rPr b="0" lang="zh-CN" sz="25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元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26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5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登月火箭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8</a:t>
                      </a:r>
                      <a:r>
                        <a:rPr b="0" lang="zh-CN" sz="25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元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26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5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碰碰车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0</a:t>
                      </a:r>
                      <a:r>
                        <a:rPr b="0" lang="zh-CN" sz="25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元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02" name="TextBox 13"/>
          <p:cNvSpPr/>
          <p:nvPr/>
        </p:nvSpPr>
        <p:spPr>
          <a:xfrm>
            <a:off x="4836960" y="1143000"/>
            <a:ext cx="3430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游乐园项目价格表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3" name="组合 2"/>
          <p:cNvGrpSpPr/>
          <p:nvPr/>
        </p:nvGrpSpPr>
        <p:grpSpPr>
          <a:xfrm>
            <a:off x="-39600" y="101520"/>
            <a:ext cx="3244680" cy="525600"/>
            <a:chOff x="-39600" y="101520"/>
            <a:chExt cx="3244680" cy="525600"/>
          </a:xfrm>
        </p:grpSpPr>
        <p:pic>
          <p:nvPicPr>
            <p:cNvPr id="1004" name="圆角矩形 3" descr=""/>
            <p:cNvPicPr/>
            <p:nvPr/>
          </p:nvPicPr>
          <p:blipFill>
            <a:blip r:embed="rId2"/>
            <a:stretch/>
          </p:blipFill>
          <p:spPr>
            <a:xfrm>
              <a:off x="1108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05" name="组合 4"/>
            <p:cNvGrpSpPr/>
            <p:nvPr/>
          </p:nvGrpSpPr>
          <p:grpSpPr>
            <a:xfrm>
              <a:off x="-39600" y="197280"/>
              <a:ext cx="429840" cy="271800"/>
              <a:chOff x="-39600" y="197280"/>
              <a:chExt cx="429840" cy="271800"/>
            </a:xfrm>
          </p:grpSpPr>
          <p:sp>
            <p:nvSpPr>
              <p:cNvPr id="1006" name="椭圆 1"/>
              <p:cNvSpPr/>
              <p:nvPr/>
            </p:nvSpPr>
            <p:spPr>
              <a:xfrm rot="16200000">
                <a:off x="203400" y="36000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07" name="椭圆 6" descr=""/>
              <p:cNvPicPr/>
              <p:nvPr/>
            </p:nvPicPr>
            <p:blipFill>
              <a:blip r:embed="rId3"/>
              <a:stretch/>
            </p:blipFill>
            <p:spPr>
              <a:xfrm>
                <a:off x="178560" y="32364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8" name="椭圆 8"/>
              <p:cNvSpPr/>
              <p:nvPr/>
            </p:nvSpPr>
            <p:spPr>
              <a:xfrm rot="16200000">
                <a:off x="203400" y="23400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09" name="椭圆 9" descr=""/>
              <p:cNvPicPr/>
              <p:nvPr/>
            </p:nvPicPr>
            <p:blipFill>
              <a:blip r:embed="rId4"/>
              <a:stretch/>
            </p:blipFill>
            <p:spPr>
              <a:xfrm>
                <a:off x="178560" y="21168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10" name="圆角矩形 10" descr=""/>
              <p:cNvPicPr/>
              <p:nvPr/>
            </p:nvPicPr>
            <p:blipFill>
              <a:blip r:embed="rId5"/>
              <a:stretch/>
            </p:blipFill>
            <p:spPr>
              <a:xfrm>
                <a:off x="-39600" y="33984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11" name="圆角矩形 11" descr=""/>
              <p:cNvPicPr/>
              <p:nvPr/>
            </p:nvPicPr>
            <p:blipFill>
              <a:blip r:embed="rId6"/>
              <a:stretch/>
            </p:blipFill>
            <p:spPr>
              <a:xfrm>
                <a:off x="-39600" y="31176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12" name="圆角矩形 12" descr=""/>
              <p:cNvPicPr/>
              <p:nvPr/>
            </p:nvPicPr>
            <p:blipFill>
              <a:blip r:embed="rId7"/>
              <a:stretch/>
            </p:blipFill>
            <p:spPr>
              <a:xfrm>
                <a:off x="-39600" y="22500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13" name="圆角矩形 13" descr=""/>
              <p:cNvPicPr/>
              <p:nvPr/>
            </p:nvPicPr>
            <p:blipFill>
              <a:blip r:embed="rId8"/>
              <a:stretch/>
            </p:blipFill>
            <p:spPr>
              <a:xfrm>
                <a:off x="-39600" y="19728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014" name="组合 15"/>
          <p:cNvGrpSpPr/>
          <p:nvPr/>
        </p:nvGrpSpPr>
        <p:grpSpPr>
          <a:xfrm>
            <a:off x="74520" y="4356000"/>
            <a:ext cx="4154760" cy="1071720"/>
            <a:chOff x="74520" y="4356000"/>
            <a:chExt cx="4154760" cy="1071720"/>
          </a:xfrm>
        </p:grpSpPr>
        <p:sp>
          <p:nvSpPr>
            <p:cNvPr id="1015" name="AutoShape 27"/>
            <p:cNvSpPr/>
            <p:nvPr/>
          </p:nvSpPr>
          <p:spPr>
            <a:xfrm>
              <a:off x="74520" y="4356000"/>
              <a:ext cx="2928960" cy="821520"/>
            </a:xfrm>
            <a:prstGeom prst="wedgeRoundRectCallout">
              <a:avLst>
                <a:gd name="adj1" fmla="val 61740"/>
                <a:gd name="adj2" fmla="val 33291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5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你能提出用乘法解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5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决的数学问题吗？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6" name="图片 14" descr="_4`F[E$PX4I}_~SSZVJ7V4J"/>
            <p:cNvPicPr/>
            <p:nvPr/>
          </p:nvPicPr>
          <p:blipFill>
            <a:blip r:embed="rId9"/>
            <a:stretch/>
          </p:blipFill>
          <p:spPr>
            <a:xfrm>
              <a:off x="3521880" y="4356000"/>
              <a:ext cx="707400" cy="107172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TextBox 3"/>
          <p:cNvSpPr/>
          <p:nvPr/>
        </p:nvSpPr>
        <p:spPr>
          <a:xfrm>
            <a:off x="820800" y="939960"/>
            <a:ext cx="69292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坐碰碰车每人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元，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人需要多少钱？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Rectangle 51"/>
          <p:cNvSpPr/>
          <p:nvPr/>
        </p:nvSpPr>
        <p:spPr>
          <a:xfrm>
            <a:off x="2181240" y="1758960"/>
            <a:ext cx="3579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20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×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＝</a:t>
            </a:r>
            <a:r>
              <a:rPr b="0" lang="zh-CN" sz="25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     </a:t>
            </a:r>
            <a:r>
              <a:rPr b="0" lang="zh-CN" sz="2500" spc="-1" strike="noStrike">
                <a:solidFill>
                  <a:srgbClr val="ffffff"/>
                </a:solidFill>
                <a:latin typeface="宋体"/>
                <a:ea typeface="宋体"/>
              </a:rPr>
              <a:t>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Rectangle 51"/>
          <p:cNvSpPr/>
          <p:nvPr/>
        </p:nvSpPr>
        <p:spPr>
          <a:xfrm>
            <a:off x="3475080" y="1681200"/>
            <a:ext cx="714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6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0" name="组合 23"/>
          <p:cNvGrpSpPr/>
          <p:nvPr/>
        </p:nvGrpSpPr>
        <p:grpSpPr>
          <a:xfrm>
            <a:off x="1285920" y="2449440"/>
            <a:ext cx="1571760" cy="1214640"/>
            <a:chOff x="1285920" y="2449440"/>
            <a:chExt cx="1571760" cy="1214640"/>
          </a:xfrm>
        </p:grpSpPr>
        <p:sp>
          <p:nvSpPr>
            <p:cNvPr id="1021" name="圆角矩形 8"/>
            <p:cNvSpPr/>
            <p:nvPr/>
          </p:nvSpPr>
          <p:spPr>
            <a:xfrm>
              <a:off x="1285920" y="2449440"/>
              <a:ext cx="1571760" cy="1214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22" name="Picture 3" descr="D:\我的文档-桌面-收藏夹\桌面\小棒.tif"/>
            <p:cNvPicPr/>
            <p:nvPr/>
          </p:nvPicPr>
          <p:blipFill>
            <a:blip r:embed="rId1"/>
            <a:srcRect l="0" t="-8285" r="0" b="0"/>
            <a:stretch/>
          </p:blipFill>
          <p:spPr>
            <a:xfrm>
              <a:off x="1500120" y="2592360"/>
              <a:ext cx="571320" cy="92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3" name="Picture 3" descr="D:\我的文档-桌面-收藏夹\桌面\小棒.tif"/>
            <p:cNvPicPr/>
            <p:nvPr/>
          </p:nvPicPr>
          <p:blipFill>
            <a:blip r:embed="rId2"/>
            <a:srcRect l="0" t="-8285" r="0" b="0"/>
            <a:stretch/>
          </p:blipFill>
          <p:spPr>
            <a:xfrm>
              <a:off x="2071800" y="2592360"/>
              <a:ext cx="571320" cy="928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24" name="组合 24"/>
          <p:cNvGrpSpPr/>
          <p:nvPr/>
        </p:nvGrpSpPr>
        <p:grpSpPr>
          <a:xfrm>
            <a:off x="3214800" y="2449440"/>
            <a:ext cx="1571400" cy="1214640"/>
            <a:chOff x="3214800" y="2449440"/>
            <a:chExt cx="1571400" cy="1214640"/>
          </a:xfrm>
        </p:grpSpPr>
        <p:sp>
          <p:nvSpPr>
            <p:cNvPr id="1025" name="圆角矩形 9"/>
            <p:cNvSpPr/>
            <p:nvPr/>
          </p:nvSpPr>
          <p:spPr>
            <a:xfrm>
              <a:off x="3214800" y="2449440"/>
              <a:ext cx="1571400" cy="1214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26" name="Picture 3" descr="D:\我的文档-桌面-收藏夹\桌面\小棒.tif"/>
            <p:cNvPicPr/>
            <p:nvPr/>
          </p:nvPicPr>
          <p:blipFill>
            <a:blip r:embed="rId3"/>
            <a:srcRect l="0" t="-8285" r="0" b="0"/>
            <a:stretch/>
          </p:blipFill>
          <p:spPr>
            <a:xfrm>
              <a:off x="3429000" y="2592360"/>
              <a:ext cx="571320" cy="92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7" name="Picture 3" descr="D:\我的文档-桌面-收藏夹\桌面\小棒.tif"/>
            <p:cNvPicPr/>
            <p:nvPr/>
          </p:nvPicPr>
          <p:blipFill>
            <a:blip r:embed="rId4"/>
            <a:srcRect l="0" t="-8285" r="0" b="0"/>
            <a:stretch/>
          </p:blipFill>
          <p:spPr>
            <a:xfrm>
              <a:off x="4000320" y="2592360"/>
              <a:ext cx="571320" cy="928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28" name="组合 25"/>
          <p:cNvGrpSpPr/>
          <p:nvPr/>
        </p:nvGrpSpPr>
        <p:grpSpPr>
          <a:xfrm>
            <a:off x="4975200" y="2449440"/>
            <a:ext cx="1571760" cy="1214640"/>
            <a:chOff x="4975200" y="2449440"/>
            <a:chExt cx="1571760" cy="1214640"/>
          </a:xfrm>
        </p:grpSpPr>
        <p:sp>
          <p:nvSpPr>
            <p:cNvPr id="1029" name="圆角矩形 12"/>
            <p:cNvSpPr/>
            <p:nvPr/>
          </p:nvSpPr>
          <p:spPr>
            <a:xfrm>
              <a:off x="4975200" y="2449440"/>
              <a:ext cx="1571760" cy="1214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30" name="Picture 3" descr="D:\我的文档-桌面-收藏夹\桌面\小棒.tif"/>
            <p:cNvPicPr/>
            <p:nvPr/>
          </p:nvPicPr>
          <p:blipFill>
            <a:blip r:embed="rId5"/>
            <a:srcRect l="0" t="-8285" r="0" b="0"/>
            <a:stretch/>
          </p:blipFill>
          <p:spPr>
            <a:xfrm>
              <a:off x="5189400" y="2592360"/>
              <a:ext cx="571320" cy="92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1" name="Picture 3" descr="D:\我的文档-桌面-收藏夹\桌面\小棒.tif"/>
            <p:cNvPicPr/>
            <p:nvPr/>
          </p:nvPicPr>
          <p:blipFill>
            <a:blip r:embed="rId6"/>
            <a:srcRect l="0" t="-8285" r="0" b="0"/>
            <a:stretch/>
          </p:blipFill>
          <p:spPr>
            <a:xfrm>
              <a:off x="5761080" y="2592360"/>
              <a:ext cx="571320" cy="928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32" name="Rectangle 51"/>
          <p:cNvSpPr/>
          <p:nvPr/>
        </p:nvSpPr>
        <p:spPr>
          <a:xfrm>
            <a:off x="2117880" y="5165640"/>
            <a:ext cx="3579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想一想：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200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×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＝</a:t>
            </a:r>
            <a:r>
              <a:rPr b="0" lang="zh-CN" sz="25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     </a:t>
            </a:r>
            <a:r>
              <a:rPr b="0" lang="zh-CN" sz="2500" spc="-1" strike="noStrike">
                <a:solidFill>
                  <a:srgbClr val="ffffff"/>
                </a:solidFill>
                <a:latin typeface="宋体"/>
                <a:ea typeface="宋体"/>
              </a:rPr>
              <a:t>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Rectangle 51"/>
          <p:cNvSpPr/>
          <p:nvPr/>
        </p:nvSpPr>
        <p:spPr>
          <a:xfrm>
            <a:off x="4832280" y="5116680"/>
            <a:ext cx="714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60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4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1035" name="圆角矩形 5" descr=""/>
            <p:cNvPicPr/>
            <p:nvPr/>
          </p:nvPicPr>
          <p:blipFill>
            <a:blip r:embed="rId7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36" name="组合 4"/>
            <p:cNvGrpSpPr/>
            <p:nvPr/>
          </p:nvGrpSpPr>
          <p:grpSpPr>
            <a:xfrm>
              <a:off x="0" y="197280"/>
              <a:ext cx="429840" cy="271800"/>
              <a:chOff x="0" y="197280"/>
              <a:chExt cx="429840" cy="271800"/>
            </a:xfrm>
          </p:grpSpPr>
          <p:sp>
            <p:nvSpPr>
              <p:cNvPr id="1037" name="椭圆 1"/>
              <p:cNvSpPr/>
              <p:nvPr/>
            </p:nvSpPr>
            <p:spPr>
              <a:xfrm rot="16200000">
                <a:off x="243000" y="36000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38" name="椭圆 10" descr=""/>
              <p:cNvPicPr/>
              <p:nvPr/>
            </p:nvPicPr>
            <p:blipFill>
              <a:blip r:embed="rId8"/>
              <a:stretch/>
            </p:blipFill>
            <p:spPr>
              <a:xfrm>
                <a:off x="218160" y="32364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39" name="椭圆 11"/>
              <p:cNvSpPr/>
              <p:nvPr/>
            </p:nvSpPr>
            <p:spPr>
              <a:xfrm rot="16200000">
                <a:off x="243000" y="23400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40" name="椭圆 12" descr=""/>
              <p:cNvPicPr/>
              <p:nvPr/>
            </p:nvPicPr>
            <p:blipFill>
              <a:blip r:embed="rId9"/>
              <a:stretch/>
            </p:blipFill>
            <p:spPr>
              <a:xfrm>
                <a:off x="218160" y="21168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41" name="圆角矩形 13" descr=""/>
              <p:cNvPicPr/>
              <p:nvPr/>
            </p:nvPicPr>
            <p:blipFill>
              <a:blip r:embed="rId10"/>
              <a:stretch/>
            </p:blipFill>
            <p:spPr>
              <a:xfrm>
                <a:off x="0" y="33984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42" name="圆角矩形 14" descr=""/>
              <p:cNvPicPr/>
              <p:nvPr/>
            </p:nvPicPr>
            <p:blipFill>
              <a:blip r:embed="rId11"/>
              <a:stretch/>
            </p:blipFill>
            <p:spPr>
              <a:xfrm>
                <a:off x="0" y="31176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43" name="圆角矩形 15" descr=""/>
              <p:cNvPicPr/>
              <p:nvPr/>
            </p:nvPicPr>
            <p:blipFill>
              <a:blip r:embed="rId12"/>
              <a:stretch/>
            </p:blipFill>
            <p:spPr>
              <a:xfrm>
                <a:off x="0" y="22500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44" name="圆角矩形 16" descr=""/>
              <p:cNvPicPr/>
              <p:nvPr/>
            </p:nvPicPr>
            <p:blipFill>
              <a:blip r:embed="rId13"/>
              <a:stretch/>
            </p:blipFill>
            <p:spPr>
              <a:xfrm>
                <a:off x="0" y="19728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045" name="八边形 17"/>
          <p:cNvSpPr/>
          <p:nvPr/>
        </p:nvSpPr>
        <p:spPr>
          <a:xfrm>
            <a:off x="179280" y="939960"/>
            <a:ext cx="514440" cy="517320"/>
          </a:xfrm>
          <a:prstGeom prst="octagon">
            <a:avLst>
              <a:gd name="adj" fmla="val 29287"/>
            </a:avLst>
          </a:prstGeom>
          <a:solidFill>
            <a:srgbClr val="00b0f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6" name="组合 19"/>
          <p:cNvGrpSpPr/>
          <p:nvPr/>
        </p:nvGrpSpPr>
        <p:grpSpPr>
          <a:xfrm>
            <a:off x="4618080" y="3959280"/>
            <a:ext cx="3665160" cy="879480"/>
            <a:chOff x="4618080" y="3959280"/>
            <a:chExt cx="3665160" cy="879480"/>
          </a:xfrm>
        </p:grpSpPr>
        <p:sp>
          <p:nvSpPr>
            <p:cNvPr id="1047" name="AutoShape 27"/>
            <p:cNvSpPr/>
            <p:nvPr/>
          </p:nvSpPr>
          <p:spPr>
            <a:xfrm>
              <a:off x="4618080" y="3959280"/>
              <a:ext cx="2740680" cy="777600"/>
            </a:xfrm>
            <a:prstGeom prst="wedgeRoundRectCallout">
              <a:avLst>
                <a:gd name="adj1" fmla="val 57032"/>
                <a:gd name="adj2" fmla="val 33037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宋体"/>
                </a:rPr>
                <a:t>2</a:t>
              </a:r>
              <a:r>
                <a:rPr b="0" lang="zh-CN" sz="23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个十乘</a:t>
              </a:r>
              <a:r>
                <a:rPr b="0" lang="en-US" sz="2300" spc="-1" strike="noStrike">
                  <a:solidFill>
                    <a:srgbClr val="000000"/>
                  </a:solidFill>
                  <a:latin typeface="宋体"/>
                </a:rPr>
                <a:t>3</a:t>
              </a:r>
              <a:r>
                <a:rPr b="0" lang="zh-CN" sz="23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是</a:t>
              </a:r>
              <a:r>
                <a:rPr b="0" lang="en-US" sz="2300" spc="-1" strike="noStrike">
                  <a:solidFill>
                    <a:srgbClr val="000000"/>
                  </a:solidFill>
                  <a:latin typeface="宋体"/>
                </a:rPr>
                <a:t>6</a:t>
              </a:r>
              <a:r>
                <a:rPr b="0" lang="zh-CN" sz="23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个十，就是</a:t>
              </a:r>
              <a:r>
                <a:rPr b="0" lang="en-US" sz="2300" spc="-1" strike="noStrike">
                  <a:solidFill>
                    <a:srgbClr val="000000"/>
                  </a:solidFill>
                  <a:latin typeface="宋体"/>
                </a:rPr>
                <a:t>60</a:t>
              </a:r>
              <a:r>
                <a:rPr b="0" lang="zh-CN" sz="23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。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48" name="图片 18" descr="6)5][}VZ%@FXJ)FA]TI76$O"/>
            <p:cNvPicPr/>
            <p:nvPr/>
          </p:nvPicPr>
          <p:blipFill>
            <a:blip r:embed="rId14"/>
            <a:stretch/>
          </p:blipFill>
          <p:spPr>
            <a:xfrm>
              <a:off x="7589880" y="4100040"/>
              <a:ext cx="693360" cy="738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49" name="组合 21"/>
          <p:cNvGrpSpPr/>
          <p:nvPr/>
        </p:nvGrpSpPr>
        <p:grpSpPr>
          <a:xfrm>
            <a:off x="1339920" y="3833640"/>
            <a:ext cx="3063600" cy="944640"/>
            <a:chOff x="1339920" y="3833640"/>
            <a:chExt cx="3063600" cy="944640"/>
          </a:xfrm>
        </p:grpSpPr>
        <p:sp>
          <p:nvSpPr>
            <p:cNvPr id="1050" name="AutoShape 27"/>
            <p:cNvSpPr/>
            <p:nvPr/>
          </p:nvSpPr>
          <p:spPr>
            <a:xfrm>
              <a:off x="2377440" y="3948840"/>
              <a:ext cx="2026080" cy="713880"/>
            </a:xfrm>
            <a:prstGeom prst="wedgeRoundRectCallout">
              <a:avLst>
                <a:gd name="adj1" fmla="val -56972"/>
                <a:gd name="adj2" fmla="val 32157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1c1c1c"/>
                  </a:solidFill>
                  <a:latin typeface="宋体"/>
                </a:rPr>
                <a:t>20+20+20=60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51" name="图片 20" descr="]@P`{@U$K{A7A$9804YYMFT"/>
            <p:cNvPicPr/>
            <p:nvPr/>
          </p:nvPicPr>
          <p:blipFill>
            <a:blip r:embed="rId15"/>
            <a:stretch/>
          </p:blipFill>
          <p:spPr>
            <a:xfrm>
              <a:off x="1339920" y="3833640"/>
              <a:ext cx="744120" cy="94464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TextBox 2"/>
          <p:cNvSpPr/>
          <p:nvPr/>
        </p:nvSpPr>
        <p:spPr>
          <a:xfrm>
            <a:off x="977760" y="577800"/>
            <a:ext cx="739476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坐过山车每人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元，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人需要多少钱？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Rectangle 51"/>
          <p:cNvSpPr/>
          <p:nvPr/>
        </p:nvSpPr>
        <p:spPr>
          <a:xfrm>
            <a:off x="3421080" y="1220760"/>
            <a:ext cx="25081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12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×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＝</a:t>
            </a:r>
            <a:r>
              <a:rPr b="0" lang="zh-CN" sz="25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     </a:t>
            </a:r>
            <a:r>
              <a:rPr b="0" lang="zh-CN" sz="2500" spc="-1" strike="noStrike">
                <a:solidFill>
                  <a:srgbClr val="ffffff"/>
                </a:solidFill>
                <a:latin typeface="宋体"/>
                <a:ea typeface="宋体"/>
              </a:rPr>
              <a:t>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Rectangle 51"/>
          <p:cNvSpPr/>
          <p:nvPr/>
        </p:nvSpPr>
        <p:spPr>
          <a:xfrm>
            <a:off x="4651200" y="1144440"/>
            <a:ext cx="7146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36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5" name="组合 11"/>
          <p:cNvGrpSpPr/>
          <p:nvPr/>
        </p:nvGrpSpPr>
        <p:grpSpPr>
          <a:xfrm>
            <a:off x="3357720" y="1859040"/>
            <a:ext cx="2286000" cy="928440"/>
            <a:chOff x="3357720" y="1859040"/>
            <a:chExt cx="2286000" cy="928440"/>
          </a:xfrm>
        </p:grpSpPr>
        <p:pic>
          <p:nvPicPr>
            <p:cNvPr id="1056" name="Picture 3" descr="D:\我的文档-桌面-收藏夹\桌面\小棒.tif"/>
            <p:cNvPicPr/>
            <p:nvPr/>
          </p:nvPicPr>
          <p:blipFill>
            <a:blip r:embed="rId1"/>
            <a:srcRect l="0" t="0" r="-1457" b="0"/>
            <a:stretch/>
          </p:blipFill>
          <p:spPr>
            <a:xfrm>
              <a:off x="3571920" y="1930320"/>
              <a:ext cx="1857600" cy="8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7" name="圆角矩形 5"/>
            <p:cNvSpPr/>
            <p:nvPr/>
          </p:nvSpPr>
          <p:spPr>
            <a:xfrm>
              <a:off x="3357720" y="1859040"/>
              <a:ext cx="2286000" cy="92844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8" name="TextBox 8"/>
          <p:cNvSpPr/>
          <p:nvPr/>
        </p:nvSpPr>
        <p:spPr>
          <a:xfrm>
            <a:off x="3286080" y="5145120"/>
            <a:ext cx="100008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宋体"/>
              </a:rPr>
              <a:t>10×3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TextBox 9"/>
          <p:cNvSpPr/>
          <p:nvPr/>
        </p:nvSpPr>
        <p:spPr>
          <a:xfrm>
            <a:off x="4714920" y="5145120"/>
            <a:ext cx="928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宋体"/>
              </a:rPr>
              <a:t>2×3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0" name="组合 12"/>
          <p:cNvGrpSpPr/>
          <p:nvPr/>
        </p:nvGrpSpPr>
        <p:grpSpPr>
          <a:xfrm>
            <a:off x="3357720" y="3073320"/>
            <a:ext cx="2286000" cy="928800"/>
            <a:chOff x="3357720" y="3073320"/>
            <a:chExt cx="2286000" cy="928800"/>
          </a:xfrm>
        </p:grpSpPr>
        <p:pic>
          <p:nvPicPr>
            <p:cNvPr id="1061" name="Picture 3" descr="D:\我的文档-桌面-收藏夹\桌面\小棒.tif"/>
            <p:cNvPicPr/>
            <p:nvPr/>
          </p:nvPicPr>
          <p:blipFill>
            <a:blip r:embed="rId2"/>
            <a:srcRect l="0" t="0" r="-1457" b="0"/>
            <a:stretch/>
          </p:blipFill>
          <p:spPr>
            <a:xfrm>
              <a:off x="3571920" y="3144600"/>
              <a:ext cx="1857600" cy="85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2" name="圆角矩形 14"/>
            <p:cNvSpPr/>
            <p:nvPr/>
          </p:nvSpPr>
          <p:spPr>
            <a:xfrm>
              <a:off x="3357720" y="3073320"/>
              <a:ext cx="2286000" cy="92880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3" name="组合 15"/>
          <p:cNvGrpSpPr/>
          <p:nvPr/>
        </p:nvGrpSpPr>
        <p:grpSpPr>
          <a:xfrm>
            <a:off x="3357720" y="4216320"/>
            <a:ext cx="2286000" cy="928800"/>
            <a:chOff x="3357720" y="4216320"/>
            <a:chExt cx="2286000" cy="928800"/>
          </a:xfrm>
        </p:grpSpPr>
        <p:pic>
          <p:nvPicPr>
            <p:cNvPr id="1064" name="Picture 3" descr="D:\我的文档-桌面-收藏夹\桌面\小棒.tif"/>
            <p:cNvPicPr/>
            <p:nvPr/>
          </p:nvPicPr>
          <p:blipFill>
            <a:blip r:embed="rId3"/>
            <a:srcRect l="0" t="0" r="-1457" b="0"/>
            <a:stretch/>
          </p:blipFill>
          <p:spPr>
            <a:xfrm>
              <a:off x="3571920" y="4287600"/>
              <a:ext cx="1857600" cy="85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5" name="圆角矩形 17"/>
            <p:cNvSpPr/>
            <p:nvPr/>
          </p:nvSpPr>
          <p:spPr>
            <a:xfrm>
              <a:off x="3357720" y="4216320"/>
              <a:ext cx="2286000" cy="92880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6" name="Rectangle 51"/>
          <p:cNvSpPr/>
          <p:nvPr/>
        </p:nvSpPr>
        <p:spPr>
          <a:xfrm>
            <a:off x="1571760" y="5595840"/>
            <a:ext cx="3579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想一想：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12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×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＝</a:t>
            </a:r>
            <a:r>
              <a:rPr b="0" lang="zh-CN" sz="25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     </a:t>
            </a:r>
            <a:r>
              <a:rPr b="0" lang="zh-CN" sz="2500" spc="-1" strike="noStrike">
                <a:solidFill>
                  <a:srgbClr val="ffffff"/>
                </a:solidFill>
                <a:latin typeface="宋体"/>
                <a:ea typeface="宋体"/>
              </a:rPr>
              <a:t>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Rectangle 51"/>
          <p:cNvSpPr/>
          <p:nvPr/>
        </p:nvSpPr>
        <p:spPr>
          <a:xfrm>
            <a:off x="4214880" y="5546880"/>
            <a:ext cx="714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48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8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1069" name="圆角矩形 10" descr=""/>
            <p:cNvPicPr/>
            <p:nvPr/>
          </p:nvPicPr>
          <p:blipFill>
            <a:blip r:embed="rId4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70" name="组合 4"/>
            <p:cNvGrpSpPr/>
            <p:nvPr/>
          </p:nvGrpSpPr>
          <p:grpSpPr>
            <a:xfrm>
              <a:off x="0" y="197280"/>
              <a:ext cx="429840" cy="271800"/>
              <a:chOff x="0" y="197280"/>
              <a:chExt cx="429840" cy="271800"/>
            </a:xfrm>
          </p:grpSpPr>
          <p:sp>
            <p:nvSpPr>
              <p:cNvPr id="1071" name="椭圆 1"/>
              <p:cNvSpPr/>
              <p:nvPr/>
            </p:nvSpPr>
            <p:spPr>
              <a:xfrm rot="16200000">
                <a:off x="243000" y="36000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72" name="椭圆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218160" y="32364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3" name="椭圆 13"/>
              <p:cNvSpPr/>
              <p:nvPr/>
            </p:nvSpPr>
            <p:spPr>
              <a:xfrm rot="16200000">
                <a:off x="243000" y="23400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74" name="椭圆 14" descr=""/>
              <p:cNvPicPr/>
              <p:nvPr/>
            </p:nvPicPr>
            <p:blipFill>
              <a:blip r:embed="rId6"/>
              <a:stretch/>
            </p:blipFill>
            <p:spPr>
              <a:xfrm>
                <a:off x="218160" y="21168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75" name="圆角矩形 15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33984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76" name="圆角矩形 16" descr=""/>
              <p:cNvPicPr/>
              <p:nvPr/>
            </p:nvPicPr>
            <p:blipFill>
              <a:blip r:embed="rId8"/>
              <a:stretch/>
            </p:blipFill>
            <p:spPr>
              <a:xfrm>
                <a:off x="0" y="31176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77" name="圆角矩形 17" descr=""/>
              <p:cNvPicPr/>
              <p:nvPr/>
            </p:nvPicPr>
            <p:blipFill>
              <a:blip r:embed="rId9"/>
              <a:stretch/>
            </p:blipFill>
            <p:spPr>
              <a:xfrm>
                <a:off x="0" y="22500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78" name="圆角矩形 18" descr=""/>
              <p:cNvPicPr/>
              <p:nvPr/>
            </p:nvPicPr>
            <p:blipFill>
              <a:blip r:embed="rId10"/>
              <a:stretch/>
            </p:blipFill>
            <p:spPr>
              <a:xfrm>
                <a:off x="0" y="19728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079" name="八边形 19"/>
          <p:cNvSpPr/>
          <p:nvPr/>
        </p:nvSpPr>
        <p:spPr>
          <a:xfrm>
            <a:off x="181080" y="804960"/>
            <a:ext cx="514080" cy="517320"/>
          </a:xfrm>
          <a:prstGeom prst="octagon">
            <a:avLst>
              <a:gd name="adj" fmla="val 29287"/>
            </a:avLst>
          </a:prstGeom>
          <a:solidFill>
            <a:srgbClr val="00b0f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0" name="组合 21"/>
          <p:cNvGrpSpPr/>
          <p:nvPr/>
        </p:nvGrpSpPr>
        <p:grpSpPr>
          <a:xfrm>
            <a:off x="6143760" y="2654280"/>
            <a:ext cx="2898720" cy="1133640"/>
            <a:chOff x="6143760" y="2654280"/>
            <a:chExt cx="2898720" cy="1133640"/>
          </a:xfrm>
        </p:grpSpPr>
        <p:sp>
          <p:nvSpPr>
            <p:cNvPr id="1081" name="AutoShape 27"/>
            <p:cNvSpPr/>
            <p:nvPr/>
          </p:nvSpPr>
          <p:spPr>
            <a:xfrm>
              <a:off x="6143760" y="2654280"/>
              <a:ext cx="1667880" cy="1133640"/>
            </a:xfrm>
            <a:prstGeom prst="wedgeRoundRectCallout">
              <a:avLst>
                <a:gd name="adj1" fmla="val 66601"/>
                <a:gd name="adj2" fmla="val 12550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宋体"/>
                </a:rPr>
                <a:t>10</a:t>
              </a:r>
              <a:r>
                <a:rPr b="0" lang="zh-CN" sz="25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×</a:t>
              </a:r>
              <a:r>
                <a:rPr b="0" lang="en-US" sz="2500" spc="-1" strike="noStrike">
                  <a:solidFill>
                    <a:srgbClr val="000000"/>
                  </a:solidFill>
                  <a:latin typeface="宋体"/>
                </a:rPr>
                <a:t>3=30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宋体"/>
                </a:rPr>
                <a:t>2</a:t>
              </a:r>
              <a:r>
                <a:rPr b="0" lang="zh-CN" sz="25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×</a:t>
              </a:r>
              <a:r>
                <a:rPr b="0" lang="en-US" sz="2500" spc="-1" strike="noStrike">
                  <a:solidFill>
                    <a:srgbClr val="000000"/>
                  </a:solidFill>
                  <a:latin typeface="宋体"/>
                </a:rPr>
                <a:t>3=6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宋体"/>
                </a:rPr>
                <a:t>30+6=36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82" name="图片 20" descr="6)5][}VZ%@FXJ)FA]TI76$O"/>
            <p:cNvPicPr/>
            <p:nvPr/>
          </p:nvPicPr>
          <p:blipFill>
            <a:blip r:embed="rId11"/>
            <a:stretch/>
          </p:blipFill>
          <p:spPr>
            <a:xfrm>
              <a:off x="8158680" y="2787480"/>
              <a:ext cx="883800" cy="941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83" name="组合 23"/>
          <p:cNvGrpSpPr/>
          <p:nvPr/>
        </p:nvGrpSpPr>
        <p:grpSpPr>
          <a:xfrm>
            <a:off x="3240" y="2684520"/>
            <a:ext cx="2993760" cy="1103400"/>
            <a:chOff x="3240" y="2684520"/>
            <a:chExt cx="2993760" cy="1103400"/>
          </a:xfrm>
        </p:grpSpPr>
        <p:sp>
          <p:nvSpPr>
            <p:cNvPr id="1084" name="AutoShape 27"/>
            <p:cNvSpPr/>
            <p:nvPr/>
          </p:nvSpPr>
          <p:spPr>
            <a:xfrm>
              <a:off x="1253160" y="2930400"/>
              <a:ext cx="1743840" cy="786240"/>
            </a:xfrm>
            <a:prstGeom prst="wedgeRoundRectCallout">
              <a:avLst>
                <a:gd name="adj1" fmla="val -66509"/>
                <a:gd name="adj2" fmla="val 8578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5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你是怎样算的？     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85" name="图片 22" descr="]@P`{@U$K{A7A$9804YYMFT"/>
            <p:cNvPicPr/>
            <p:nvPr/>
          </p:nvPicPr>
          <p:blipFill>
            <a:blip r:embed="rId12"/>
            <a:stretch/>
          </p:blipFill>
          <p:spPr>
            <a:xfrm>
              <a:off x="3240" y="2684520"/>
              <a:ext cx="868320" cy="110340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6" name="组合 2"/>
          <p:cNvGrpSpPr/>
          <p:nvPr/>
        </p:nvGrpSpPr>
        <p:grpSpPr>
          <a:xfrm>
            <a:off x="123840" y="-73080"/>
            <a:ext cx="3244680" cy="525600"/>
            <a:chOff x="123840" y="-73080"/>
            <a:chExt cx="3244680" cy="525600"/>
          </a:xfrm>
        </p:grpSpPr>
        <p:pic>
          <p:nvPicPr>
            <p:cNvPr id="1087" name="圆角矩形 5" descr=""/>
            <p:cNvPicPr/>
            <p:nvPr/>
          </p:nvPicPr>
          <p:blipFill>
            <a:blip r:embed="rId1"/>
            <a:stretch/>
          </p:blipFill>
          <p:spPr>
            <a:xfrm>
              <a:off x="274320" y="-7308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88" name="组合 4"/>
            <p:cNvGrpSpPr/>
            <p:nvPr/>
          </p:nvGrpSpPr>
          <p:grpSpPr>
            <a:xfrm>
              <a:off x="123840" y="21960"/>
              <a:ext cx="429840" cy="273600"/>
              <a:chOff x="123840" y="21960"/>
              <a:chExt cx="429840" cy="273600"/>
            </a:xfrm>
          </p:grpSpPr>
          <p:sp>
            <p:nvSpPr>
              <p:cNvPr id="1089" name="椭圆 1"/>
              <p:cNvSpPr/>
              <p:nvPr/>
            </p:nvSpPr>
            <p:spPr>
              <a:xfrm rot="16200000">
                <a:off x="366480" y="18612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90" name="椭圆 7" descr=""/>
              <p:cNvPicPr/>
              <p:nvPr/>
            </p:nvPicPr>
            <p:blipFill>
              <a:blip r:embed="rId2"/>
              <a:stretch/>
            </p:blipFill>
            <p:spPr>
              <a:xfrm>
                <a:off x="342000" y="14904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91" name="椭圆 29"/>
              <p:cNvSpPr/>
              <p:nvPr/>
            </p:nvSpPr>
            <p:spPr>
              <a:xfrm rot="16200000">
                <a:off x="366480" y="5940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92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342000" y="3636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93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123840" y="16560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94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123840" y="1371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95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123840" y="5004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96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123840" y="219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097" name="文本框 4"/>
          <p:cNvSpPr/>
          <p:nvPr/>
        </p:nvSpPr>
        <p:spPr>
          <a:xfrm>
            <a:off x="1673280" y="754200"/>
            <a:ext cx="57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Calibri"/>
                <a:ea typeface="宋体"/>
              </a:rPr>
              <a:t>整十、整百数乘一位数的口算方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文本框 6"/>
          <p:cNvSpPr/>
          <p:nvPr/>
        </p:nvSpPr>
        <p:spPr>
          <a:xfrm>
            <a:off x="1579680" y="3292560"/>
            <a:ext cx="659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Calibri"/>
                <a:ea typeface="宋体"/>
              </a:rPr>
              <a:t>两位数乘一位数（不进位）的口算方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文本框 8"/>
          <p:cNvSpPr/>
          <p:nvPr/>
        </p:nvSpPr>
        <p:spPr>
          <a:xfrm>
            <a:off x="601560" y="1463760"/>
            <a:ext cx="801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口算整十、整百数乘一位数，可以用整十、整百数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0”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前面的数去乘一位数，再在得数末尾添上一个或两个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0”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文本框 9"/>
          <p:cNvSpPr/>
          <p:nvPr/>
        </p:nvSpPr>
        <p:spPr>
          <a:xfrm>
            <a:off x="488880" y="411480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口算两位数乘一位数（不进位）时，先用几个十和几个一分别去乘一位数，再把两次的积加起来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TextBox 4"/>
          <p:cNvSpPr/>
          <p:nvPr/>
        </p:nvSpPr>
        <p:spPr>
          <a:xfrm>
            <a:off x="642960" y="1425600"/>
            <a:ext cx="53578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口算下面各题，说说你是怎样想的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TextBox 5"/>
          <p:cNvSpPr/>
          <p:nvPr/>
        </p:nvSpPr>
        <p:spPr>
          <a:xfrm>
            <a:off x="785880" y="1996920"/>
            <a:ext cx="12859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20×7=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TextBox 6"/>
          <p:cNvSpPr/>
          <p:nvPr/>
        </p:nvSpPr>
        <p:spPr>
          <a:xfrm>
            <a:off x="3286080" y="1996920"/>
            <a:ext cx="17146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200×7=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TextBox 7"/>
          <p:cNvSpPr/>
          <p:nvPr/>
        </p:nvSpPr>
        <p:spPr>
          <a:xfrm>
            <a:off x="6143760" y="1996920"/>
            <a:ext cx="178596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700×2=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TextBox 8"/>
          <p:cNvSpPr/>
          <p:nvPr/>
        </p:nvSpPr>
        <p:spPr>
          <a:xfrm>
            <a:off x="785880" y="2639880"/>
            <a:ext cx="12859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21×4=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TextBox 9"/>
          <p:cNvSpPr/>
          <p:nvPr/>
        </p:nvSpPr>
        <p:spPr>
          <a:xfrm>
            <a:off x="3286080" y="2639880"/>
            <a:ext cx="12859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23×2=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TextBox 10"/>
          <p:cNvSpPr/>
          <p:nvPr/>
        </p:nvSpPr>
        <p:spPr>
          <a:xfrm>
            <a:off x="6143760" y="2639880"/>
            <a:ext cx="12859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32×3=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TextBox 11"/>
          <p:cNvSpPr/>
          <p:nvPr/>
        </p:nvSpPr>
        <p:spPr>
          <a:xfrm>
            <a:off x="1857240" y="2139840"/>
            <a:ext cx="8575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14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TextBox 12"/>
          <p:cNvSpPr/>
          <p:nvPr/>
        </p:nvSpPr>
        <p:spPr>
          <a:xfrm>
            <a:off x="4500720" y="2139840"/>
            <a:ext cx="1000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140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TextBox 13"/>
          <p:cNvSpPr/>
          <p:nvPr/>
        </p:nvSpPr>
        <p:spPr>
          <a:xfrm>
            <a:off x="7358040" y="2139840"/>
            <a:ext cx="1000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140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TextBox 14"/>
          <p:cNvSpPr/>
          <p:nvPr/>
        </p:nvSpPr>
        <p:spPr>
          <a:xfrm>
            <a:off x="1857240" y="2782800"/>
            <a:ext cx="8575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8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TextBox 15"/>
          <p:cNvSpPr/>
          <p:nvPr/>
        </p:nvSpPr>
        <p:spPr>
          <a:xfrm>
            <a:off x="4357800" y="2782800"/>
            <a:ext cx="8571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46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TextBox 16"/>
          <p:cNvSpPr/>
          <p:nvPr/>
        </p:nvSpPr>
        <p:spPr>
          <a:xfrm>
            <a:off x="7215120" y="2782800"/>
            <a:ext cx="8571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96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4" name="组合 2"/>
          <p:cNvGrpSpPr/>
          <p:nvPr/>
        </p:nvGrpSpPr>
        <p:grpSpPr>
          <a:xfrm>
            <a:off x="123840" y="-73080"/>
            <a:ext cx="3244680" cy="525600"/>
            <a:chOff x="123840" y="-73080"/>
            <a:chExt cx="3244680" cy="525600"/>
          </a:xfrm>
        </p:grpSpPr>
        <p:pic>
          <p:nvPicPr>
            <p:cNvPr id="1115" name="圆角矩形 5" descr=""/>
            <p:cNvPicPr/>
            <p:nvPr/>
          </p:nvPicPr>
          <p:blipFill>
            <a:blip r:embed="rId1"/>
            <a:stretch/>
          </p:blipFill>
          <p:spPr>
            <a:xfrm>
              <a:off x="274320" y="-7308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16" name="组合 4"/>
            <p:cNvGrpSpPr/>
            <p:nvPr/>
          </p:nvGrpSpPr>
          <p:grpSpPr>
            <a:xfrm>
              <a:off x="123840" y="22680"/>
              <a:ext cx="429840" cy="271800"/>
              <a:chOff x="123840" y="22680"/>
              <a:chExt cx="429840" cy="271800"/>
            </a:xfrm>
          </p:grpSpPr>
          <p:sp>
            <p:nvSpPr>
              <p:cNvPr id="1117" name="椭圆 1"/>
              <p:cNvSpPr/>
              <p:nvPr/>
            </p:nvSpPr>
            <p:spPr>
              <a:xfrm rot="16200000">
                <a:off x="366840" y="18540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18" name="椭圆 7" descr=""/>
              <p:cNvPicPr/>
              <p:nvPr/>
            </p:nvPicPr>
            <p:blipFill>
              <a:blip r:embed="rId2"/>
              <a:stretch/>
            </p:blipFill>
            <p:spPr>
              <a:xfrm>
                <a:off x="342000" y="14904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9" name="椭圆 29"/>
              <p:cNvSpPr/>
              <p:nvPr/>
            </p:nvSpPr>
            <p:spPr>
              <a:xfrm rot="16200000">
                <a:off x="366840" y="5940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20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342000" y="3708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21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123840" y="16524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22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123840" y="13716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23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123840" y="5040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24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123840" y="2268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5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1126" name="圆角矩形 5" descr=""/>
            <p:cNvPicPr/>
            <p:nvPr/>
          </p:nvPicPr>
          <p:blipFill>
            <a:blip r:embed="rId1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27" name="组合 4"/>
            <p:cNvGrpSpPr/>
            <p:nvPr/>
          </p:nvGrpSpPr>
          <p:grpSpPr>
            <a:xfrm>
              <a:off x="0" y="197280"/>
              <a:ext cx="429840" cy="271800"/>
              <a:chOff x="0" y="197280"/>
              <a:chExt cx="429840" cy="271800"/>
            </a:xfrm>
          </p:grpSpPr>
          <p:sp>
            <p:nvSpPr>
              <p:cNvPr id="1128" name="椭圆 1"/>
              <p:cNvSpPr/>
              <p:nvPr/>
            </p:nvSpPr>
            <p:spPr>
              <a:xfrm rot="16200000">
                <a:off x="243000" y="36000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29" name="椭圆 7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2364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0" name="椭圆 29"/>
              <p:cNvSpPr/>
              <p:nvPr/>
            </p:nvSpPr>
            <p:spPr>
              <a:xfrm rot="16200000">
                <a:off x="243000" y="23400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31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1168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32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3984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33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1176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34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500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35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728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136" name="文本框 99"/>
          <p:cNvSpPr/>
          <p:nvPr/>
        </p:nvSpPr>
        <p:spPr>
          <a:xfrm>
            <a:off x="279360" y="817560"/>
            <a:ext cx="8699400" cy="39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、口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30×4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＝　　　　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300×5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＝　　　　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00×4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400×8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＝　　　　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50×7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＝　　　　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60×5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＝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800×3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＝　　　　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7×20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＝　　　　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90×8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700×4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＝　　　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400×5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＝　　　　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000×7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300×6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＝　　　　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60×8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＝　　　　　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900×9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文本框 1"/>
          <p:cNvSpPr/>
          <p:nvPr/>
        </p:nvSpPr>
        <p:spPr>
          <a:xfrm>
            <a:off x="1695600" y="1628640"/>
            <a:ext cx="76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文本框 2"/>
          <p:cNvSpPr/>
          <p:nvPr/>
        </p:nvSpPr>
        <p:spPr>
          <a:xfrm>
            <a:off x="4638600" y="1628640"/>
            <a:ext cx="12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15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文本框 4"/>
          <p:cNvSpPr/>
          <p:nvPr/>
        </p:nvSpPr>
        <p:spPr>
          <a:xfrm>
            <a:off x="7713720" y="1628640"/>
            <a:ext cx="76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8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文本框 6"/>
          <p:cNvSpPr/>
          <p:nvPr/>
        </p:nvSpPr>
        <p:spPr>
          <a:xfrm>
            <a:off x="1859040" y="2270160"/>
            <a:ext cx="91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32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文本框 8"/>
          <p:cNvSpPr/>
          <p:nvPr/>
        </p:nvSpPr>
        <p:spPr>
          <a:xfrm>
            <a:off x="4565520" y="2270160"/>
            <a:ext cx="117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35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文本框 9"/>
          <p:cNvSpPr/>
          <p:nvPr/>
        </p:nvSpPr>
        <p:spPr>
          <a:xfrm>
            <a:off x="7566120" y="2270160"/>
            <a:ext cx="102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3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文本框 10"/>
          <p:cNvSpPr/>
          <p:nvPr/>
        </p:nvSpPr>
        <p:spPr>
          <a:xfrm>
            <a:off x="1859040" y="2930400"/>
            <a:ext cx="91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24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文本框 11"/>
          <p:cNvSpPr/>
          <p:nvPr/>
        </p:nvSpPr>
        <p:spPr>
          <a:xfrm>
            <a:off x="4638600" y="2930400"/>
            <a:ext cx="110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14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文本框 12"/>
          <p:cNvSpPr/>
          <p:nvPr/>
        </p:nvSpPr>
        <p:spPr>
          <a:xfrm>
            <a:off x="7566120" y="2930400"/>
            <a:ext cx="76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7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文本框 13"/>
          <p:cNvSpPr/>
          <p:nvPr/>
        </p:nvSpPr>
        <p:spPr>
          <a:xfrm>
            <a:off x="1860480" y="3546360"/>
            <a:ext cx="91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28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文本框 14"/>
          <p:cNvSpPr/>
          <p:nvPr/>
        </p:nvSpPr>
        <p:spPr>
          <a:xfrm>
            <a:off x="4638600" y="3621240"/>
            <a:ext cx="91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文本框 15"/>
          <p:cNvSpPr/>
          <p:nvPr/>
        </p:nvSpPr>
        <p:spPr>
          <a:xfrm>
            <a:off x="7877160" y="3621240"/>
            <a:ext cx="91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7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文本框 16"/>
          <p:cNvSpPr/>
          <p:nvPr/>
        </p:nvSpPr>
        <p:spPr>
          <a:xfrm>
            <a:off x="1860480" y="4292640"/>
            <a:ext cx="91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18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文本框 17"/>
          <p:cNvSpPr/>
          <p:nvPr/>
        </p:nvSpPr>
        <p:spPr>
          <a:xfrm>
            <a:off x="4448160" y="4208400"/>
            <a:ext cx="91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4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文本框 18"/>
          <p:cNvSpPr/>
          <p:nvPr/>
        </p:nvSpPr>
        <p:spPr>
          <a:xfrm>
            <a:off x="7713720" y="4208400"/>
            <a:ext cx="91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8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2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1153" name="圆角矩形 5" descr=""/>
            <p:cNvPicPr/>
            <p:nvPr/>
          </p:nvPicPr>
          <p:blipFill>
            <a:blip r:embed="rId1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54" name="组合 4"/>
            <p:cNvGrpSpPr/>
            <p:nvPr/>
          </p:nvGrpSpPr>
          <p:grpSpPr>
            <a:xfrm>
              <a:off x="0" y="197280"/>
              <a:ext cx="429840" cy="271800"/>
              <a:chOff x="0" y="197280"/>
              <a:chExt cx="429840" cy="271800"/>
            </a:xfrm>
          </p:grpSpPr>
          <p:sp>
            <p:nvSpPr>
              <p:cNvPr id="1155" name="椭圆 1"/>
              <p:cNvSpPr/>
              <p:nvPr/>
            </p:nvSpPr>
            <p:spPr>
              <a:xfrm rot="16200000">
                <a:off x="243000" y="36000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56" name="椭圆 7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2364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57" name="椭圆 29"/>
              <p:cNvSpPr/>
              <p:nvPr/>
            </p:nvSpPr>
            <p:spPr>
              <a:xfrm rot="16200000">
                <a:off x="243000" y="23400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58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1168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9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3984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0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1176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1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500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2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728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163" name="文本框 10"/>
          <p:cNvSpPr/>
          <p:nvPr/>
        </p:nvSpPr>
        <p:spPr>
          <a:xfrm>
            <a:off x="365040" y="933480"/>
            <a:ext cx="227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二、比一比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文本框 11"/>
          <p:cNvSpPr/>
          <p:nvPr/>
        </p:nvSpPr>
        <p:spPr>
          <a:xfrm>
            <a:off x="882720" y="1673280"/>
            <a:ext cx="143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600×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文本框 12"/>
          <p:cNvSpPr/>
          <p:nvPr/>
        </p:nvSpPr>
        <p:spPr>
          <a:xfrm>
            <a:off x="2900520" y="1612800"/>
            <a:ext cx="1555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700×7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文本框 13"/>
          <p:cNvSpPr/>
          <p:nvPr/>
        </p:nvSpPr>
        <p:spPr>
          <a:xfrm>
            <a:off x="5259240" y="161280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50×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文本框 14"/>
          <p:cNvSpPr/>
          <p:nvPr/>
        </p:nvSpPr>
        <p:spPr>
          <a:xfrm>
            <a:off x="7175520" y="1612800"/>
            <a:ext cx="170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60×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文本框 15"/>
          <p:cNvSpPr/>
          <p:nvPr/>
        </p:nvSpPr>
        <p:spPr>
          <a:xfrm>
            <a:off x="882720" y="3451320"/>
            <a:ext cx="1479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300×4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文本框 16"/>
          <p:cNvSpPr/>
          <p:nvPr/>
        </p:nvSpPr>
        <p:spPr>
          <a:xfrm>
            <a:off x="2990880" y="3451320"/>
            <a:ext cx="1374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00×6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文本框 17"/>
          <p:cNvSpPr/>
          <p:nvPr/>
        </p:nvSpPr>
        <p:spPr>
          <a:xfrm>
            <a:off x="5259240" y="3451320"/>
            <a:ext cx="174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600×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文本框 18"/>
          <p:cNvSpPr/>
          <p:nvPr/>
        </p:nvSpPr>
        <p:spPr>
          <a:xfrm>
            <a:off x="7334280" y="3451320"/>
            <a:ext cx="174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300×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文本框 19"/>
          <p:cNvSpPr/>
          <p:nvPr/>
        </p:nvSpPr>
        <p:spPr>
          <a:xfrm>
            <a:off x="936720" y="5337000"/>
            <a:ext cx="155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400×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文本框 20"/>
          <p:cNvSpPr/>
          <p:nvPr/>
        </p:nvSpPr>
        <p:spPr>
          <a:xfrm>
            <a:off x="3097080" y="5337000"/>
            <a:ext cx="1470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6×40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文本框 21"/>
          <p:cNvSpPr/>
          <p:nvPr/>
        </p:nvSpPr>
        <p:spPr>
          <a:xfrm>
            <a:off x="5259240" y="5337000"/>
            <a:ext cx="1704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宋体"/>
                <a:ea typeface="宋体"/>
              </a:rPr>
              <a:t>　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900×5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文本框 22"/>
          <p:cNvSpPr/>
          <p:nvPr/>
        </p:nvSpPr>
        <p:spPr>
          <a:xfrm>
            <a:off x="7238880" y="5337000"/>
            <a:ext cx="1938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90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Oval 155"/>
          <p:cNvSpPr/>
          <p:nvPr/>
        </p:nvSpPr>
        <p:spPr>
          <a:xfrm>
            <a:off x="2233440" y="1695600"/>
            <a:ext cx="411480" cy="434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Oval 155"/>
          <p:cNvSpPr/>
          <p:nvPr/>
        </p:nvSpPr>
        <p:spPr>
          <a:xfrm>
            <a:off x="6594480" y="1612800"/>
            <a:ext cx="411120" cy="435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Oval 155"/>
          <p:cNvSpPr/>
          <p:nvPr/>
        </p:nvSpPr>
        <p:spPr>
          <a:xfrm>
            <a:off x="2319480" y="3492360"/>
            <a:ext cx="411120" cy="43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Oval 155"/>
          <p:cNvSpPr/>
          <p:nvPr/>
        </p:nvSpPr>
        <p:spPr>
          <a:xfrm>
            <a:off x="6707160" y="3451320"/>
            <a:ext cx="411120" cy="43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Oval 155"/>
          <p:cNvSpPr/>
          <p:nvPr/>
        </p:nvSpPr>
        <p:spPr>
          <a:xfrm>
            <a:off x="2362320" y="5378400"/>
            <a:ext cx="412560" cy="434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Oval 155"/>
          <p:cNvSpPr/>
          <p:nvPr/>
        </p:nvSpPr>
        <p:spPr>
          <a:xfrm>
            <a:off x="6923160" y="5337000"/>
            <a:ext cx="411120" cy="435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文本框 1"/>
          <p:cNvSpPr/>
          <p:nvPr/>
        </p:nvSpPr>
        <p:spPr>
          <a:xfrm>
            <a:off x="2285280" y="169560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Calibri"/>
                <a:ea typeface="宋体"/>
              </a:rPr>
              <a:t>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文本框 2"/>
          <p:cNvSpPr/>
          <p:nvPr/>
        </p:nvSpPr>
        <p:spPr>
          <a:xfrm>
            <a:off x="2421720" y="545796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Calibri"/>
                <a:ea typeface="宋体"/>
              </a:rPr>
              <a:t>＞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文本框 4"/>
          <p:cNvSpPr/>
          <p:nvPr/>
        </p:nvSpPr>
        <p:spPr>
          <a:xfrm>
            <a:off x="6646320" y="1649520"/>
            <a:ext cx="30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Calibri"/>
                <a:ea typeface="宋体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文本框 6"/>
          <p:cNvSpPr/>
          <p:nvPr/>
        </p:nvSpPr>
        <p:spPr>
          <a:xfrm>
            <a:off x="2371320" y="3530520"/>
            <a:ext cx="30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Calibri"/>
                <a:ea typeface="宋体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文本框 8"/>
          <p:cNvSpPr/>
          <p:nvPr/>
        </p:nvSpPr>
        <p:spPr>
          <a:xfrm>
            <a:off x="6759000" y="3440160"/>
            <a:ext cx="30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Calibri"/>
                <a:ea typeface="宋体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文本框 9"/>
          <p:cNvSpPr/>
          <p:nvPr/>
        </p:nvSpPr>
        <p:spPr>
          <a:xfrm>
            <a:off x="7016040" y="537840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Calibri"/>
                <a:ea typeface="宋体"/>
              </a:rPr>
              <a:t>＞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8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1189" name="圆角矩形 5" descr=""/>
            <p:cNvPicPr/>
            <p:nvPr/>
          </p:nvPicPr>
          <p:blipFill>
            <a:blip r:embed="rId1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90" name="组合 4"/>
            <p:cNvGrpSpPr/>
            <p:nvPr/>
          </p:nvGrpSpPr>
          <p:grpSpPr>
            <a:xfrm>
              <a:off x="0" y="197280"/>
              <a:ext cx="429840" cy="271800"/>
              <a:chOff x="0" y="197280"/>
              <a:chExt cx="429840" cy="271800"/>
            </a:xfrm>
          </p:grpSpPr>
          <p:sp>
            <p:nvSpPr>
              <p:cNvPr id="1191" name="椭圆 1"/>
              <p:cNvSpPr/>
              <p:nvPr/>
            </p:nvSpPr>
            <p:spPr>
              <a:xfrm rot="16200000">
                <a:off x="243000" y="36000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92" name="椭圆 7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2364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3" name="椭圆 29"/>
              <p:cNvSpPr/>
              <p:nvPr/>
            </p:nvSpPr>
            <p:spPr>
              <a:xfrm rot="16200000">
                <a:off x="243000" y="23400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94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1168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95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3984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96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1176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97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500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98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728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199" name="文本框 107"/>
          <p:cNvSpPr/>
          <p:nvPr/>
        </p:nvSpPr>
        <p:spPr>
          <a:xfrm>
            <a:off x="441360" y="1090440"/>
            <a:ext cx="8670960" cy="39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三、列式计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.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个数是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90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另一个数是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两数之积是多少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. 40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倍是多少？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3. 6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90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和是多少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文本框 1"/>
          <p:cNvSpPr/>
          <p:nvPr/>
        </p:nvSpPr>
        <p:spPr>
          <a:xfrm>
            <a:off x="1701720" y="2473200"/>
            <a:ext cx="318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900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×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7=63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文本框 2"/>
          <p:cNvSpPr/>
          <p:nvPr/>
        </p:nvSpPr>
        <p:spPr>
          <a:xfrm>
            <a:off x="1600200" y="3863880"/>
            <a:ext cx="318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400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×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5=2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文本框 4"/>
          <p:cNvSpPr/>
          <p:nvPr/>
        </p:nvSpPr>
        <p:spPr>
          <a:xfrm>
            <a:off x="1509840" y="5091120"/>
            <a:ext cx="318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900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×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6=54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26T11:02:33Z</dcterms:created>
  <dc:creator/>
  <dc:description/>
  <dc:language>en-US</dc:language>
  <cp:lastModifiedBy>万润仪器贸易公司</cp:lastModifiedBy>
  <dcterms:modified xsi:type="dcterms:W3CDTF">2020-08-21T01:28:16Z</dcterms:modified>
  <cp:revision>16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